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0E9-F7AA-4CE6-AF72-489C3E66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E26-9C5B-477C-9FDE-60C5A1C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CB7-B28C-48D4-B354-799D70BE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750-B06C-40A7-BB5C-F13F367E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EAC4-8315-45E8-9201-9055C70C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DCC-B8C4-4BCA-85E1-28E67DE6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909-969D-4149-A778-D05E573C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42C-AD75-4DCA-A776-01EC1A1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834-8B87-4545-AE98-D9E0CA4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55C-B8A8-40D5-846E-1874EEF8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6B1-4983-4F55-A232-6B5BAF2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A05-390A-4117-8361-6890B963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B19-1496-4776-A037-0B1FB14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FB34-370F-48D4-AC95-27133FD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985-F574-455E-82E5-76204C7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7F67-FC78-4789-9885-936D6A59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AF9-668E-4B82-94FD-BAD5277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C01-2CD5-4552-814A-17C04038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1368-F6FE-4EEF-85F0-6E1CE047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8A3C-40EE-4824-A3C2-8525EE5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8B96-02E5-4BB1-AB18-98DB018A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DA01-537E-4B3B-BCBD-3C47DDF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61A-25F9-41EE-AB8F-2341F71E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C2F0-F2D5-4F08-BF7B-6B69C479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F11C-C58F-4D64-B1A7-430F053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54E3-0002-4D10-9F31-B5F8CBA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EFC5-7648-4854-BF8A-37A916A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E5DB-AD0C-4E0C-9B58-F92F42CC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6592-C988-4468-AFB7-E721500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55C5-F818-4D7A-A093-D9AF6923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D33C-6B14-49F9-ABB9-8C9861D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1568-4083-4317-9E73-AAF859D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A55B-14C8-4044-8338-54564D5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502-12B7-43DF-9B83-7BC9B91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F238-4447-4622-A002-F94159FB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4825-B6DC-4E36-A173-A645440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7AD6-CFC6-4612-958C-757C7550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42A8F-48D3-4816-8CEF-1175D6E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4DF6-669B-4E0E-B799-A759AAD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A8302-3EA1-47D6-9C84-9862EC2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4DC8-C7D9-4CDF-9791-B5B43B1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8AD5-90C6-4ACF-824F-D60D6394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0A15-2C56-417D-A7A4-DACB0402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A8CE-4193-4936-949F-0AB725B0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5CA-9510-4ACB-8EE3-1B064028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CBBB-322A-4393-B9CE-6B45EDD2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C71E-95CA-486A-996B-A092F39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B404-D747-49D6-B1DD-483FBCC2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E3D9-9646-463A-B3A8-6B6D4ED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8EBB-4839-44EF-859E-3317A1D6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5B198-2B49-4419-B7AD-C153164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28E9-959E-4824-9636-4E47905B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1357-6FB5-4235-8E39-664A5422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EA1B-B254-4A4A-B5AD-C4BA6E7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3B85-B2C7-4358-8F1C-B56B53EE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D2C-2BD5-4105-A4DB-7FCEEABD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012C-3FCB-4556-8441-D1B54FBD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891-A195-4C57-94E7-C46ACAF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F0F-693B-4512-9B0D-70F68E3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5B5-7272-4A44-9DA0-117C6FE7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1E3-9F2D-4D9C-A655-3C24A1E1DB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7D0-ECBE-4928-A4FA-C18E15D5ED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C1C-F727-464F-8512-EFD6098237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67F-7CDF-43AF-9D9E-149E5B3220A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002-667D-48C7-92EF-343B949DFC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Хематолошке болести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о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стале урођене трoмбофилије се односе на мутације гена одговорних за синтезу протеина који учествују у разградњи фактора коагулације- дефицијенција протеина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, 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ли дефицијенцију антитромби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ечене трoмбофилије се јављају у склопу аутоимуних поремећаја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upus anticoagulans, antifosfolipidni sindrom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карактеришу се синтезом ауто-антитела на протеине одговорне за разградњу фактора коагула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о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ма последњим истраживањима и препоруци Америчког удружења гинеколога урођене тромбофилије (сем недостатка антитромбина!) не захтевају лечење или чак тестирање, без претходне епизоде тромбозе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ије уочена повезаност између генетски, али не и клинички потврђене урођене тромбофилије и непожељних завршетака трудноће (спонтани побачај, превремено одлубљивање постељице, интраутерина смрт плод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3" name="Picture 19" descr=""/>
          <p:cNvPicPr/>
          <p:nvPr/>
        </p:nvPicPr>
        <p:blipFill>
          <a:blip r:embed="rId1"/>
          <a:srcRect l="0" t="26558" r="0" b="26558"/>
          <a:stretch/>
        </p:blipFill>
        <p:spPr>
          <a:xfrm>
            <a:off x="2627280" y="189000"/>
            <a:ext cx="4032360" cy="4173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3640" y="1125360"/>
            <a:ext cx="835164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Трудноћа је специфично стање за све органске системе, укључујући и хематопоезни сис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Генерално, у трудноћи долази до појачања  синтезе свих крвних деривата; у другом триместру се јавља хиперволемија јер се синтетише до 1500мл додатне крвне плазме да би се омогућио раст и развој плода циркулисањем крви кроз постељиц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Та крв мора нечиме да се ,, напуни’’ – појачанa синтеза елемената и беле и црвене крвне лоз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хематолошко обољење у трудноћи; инциденца варира од 25-40% у Србији(зависно од аутора и подруч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лавни разлог се тако велике учесталости је недостатак  гвожђа; потребе за гвожђем расту од другог триместра и крећу се од 30-60 мг днев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правилна,а не оскудна исхрана j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ausa principalis 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ајчешћи узрок су  анемије услед недостатка гвожђа&gt;6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руге по учесталости су анемије услед крварења- 2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еостали број анемија припада мегалобластним   апластичним  и хемолитичким анемија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914400" y="1916280"/>
            <a:ext cx="37497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требе за гвожђем расту како трудноћа напредује, тако се и анемија услед недостатка гвожђа јавља углавном у другом триместр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азвој ове врсте анемије прати раст трудноће; пад еритроцита и вредности хемоглобина(&lt;120) у периферном размазу крви је све већи уколико се анемија не леч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немије услед недостатка гвожђа су упорне и остављају последице како и на трудницу тако и на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клиничкој слици код трудница доминира малаксалост, замор и бледил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уготрајне анемије у трудноћи могу довести до застоја у расту плода и феталне анемије, што за последицу може имати  интраутерини застој у расту (ИУЗР) или превремени порођај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 се правилном исхраном и суплементима гвожђа уз обавезни додатак фолне кисели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се наставља и после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немије услед крварења се  јављају обично после порођаја или побачаја; могу се јавити и услед  превремене абрупције постељиц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убитак  крви после порођаја је обично велик, али је надокнађен претходном хиперволемиј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зависности од врсте порођаја, као и величине трудноће и труднице губитак крви не би смео да прелази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2 лит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трансфузија, препарати плазме као и препарати гвожђ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Мегалобластне анемије се јављају услед недостатка фолне киселине као и витамина Б12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Апластичне анемије су карактеристичне за трудноће са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HIV-o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Хемолитичка анемија се јавља услед других болести у трудноћи 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IH, HELLP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37497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рођена или стечена дефицијенција  протеина који инхибирају каскаду коагула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рођене тромбофилије се односе на урођени недостатак  који настаје услед генских мутација; готово све урођене тромбофилије су аутозомно доминантне и инкопатибилне са живот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а ли ће се нека тромбофилија развити у тромбозу зависи од експресивности мутираног гена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а је мутација фактора V,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Лејденова мут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која се јавља код око 20% жена беле расе у Европ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7:40Z</dcterms:modified>
  <cp:revision>193</cp:revision>
  <dc:subject/>
  <dc:title>ФАКУЛТЕТ МЕДИЦИНСКИХ НАУКА УНИВЕРЗИТЕТ У КРАГУЈЕВЦУ</dc:title>
</cp:coreProperties>
</file>