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D4D-AD6A-41DF-9FF8-7C97E902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02B-6D39-4E59-AE16-4847DF9B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2602-929F-46B6-B0C2-99B69082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ED9-41A8-4B8C-9557-66E6A738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486B-7493-4BD8-A3FB-CC4F48DC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0A42-EC35-443C-AAC2-B0AE98B6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4999-B384-42ED-A4AB-EFC7FCBF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10AB-1B89-4FE6-A092-7C8564CA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4FF9-56D0-47EA-A529-BD8C299A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DB3F-E1BC-4723-A6CB-0CE90D50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98C8-2B6F-4E76-91CC-944D6D7C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58F-869D-4F48-96E4-D3EDAD59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CC0C-95CD-49E0-8AE2-13B7FBD8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2DAC-8B5C-42B3-8436-8B909072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B640-6480-4758-86A8-2040CA47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CE97-849C-431A-BDCC-60D65C73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73DB-C8CF-4AD0-93A2-21A2E558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2E4FA-8BC5-409C-ACF5-3D253610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11C6-3E1F-4F18-ADB3-8BAF2D90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47819-05FF-4438-A597-9A677205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78658-6A24-4C47-BCE7-CCE76A9F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1DA2-9ABF-49A8-A2B1-0B007791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D98-12D0-4B6C-9E9F-F717F5C4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C2C7-87B0-437A-9728-F6770B2B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6001-C040-4F0B-B356-E0F362AE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F6482-FAF5-4600-B7C6-A46D2248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C801-91E3-499A-9CB7-4AADD489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355E6-137F-4632-8857-A8835FFA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804E8-BAB3-4074-B9F8-F2C3158A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4DA77-1E26-4B98-9564-9A06A7F3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164E3-D8A7-48B2-94AB-E1A1A8A4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9A3D-C80A-4096-B4E7-46FB6786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93E7A-9DCF-43D7-8950-0222EE55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0CC-A75A-4B77-89A1-9219A425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10796-98FA-4CC3-8D64-52E8E98B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A4F20-1041-4DEC-B73E-37B88D2F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1FF35-D9A7-473F-9884-414D5C8E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69CEF-2613-4C64-B7B9-4A795E55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F9B09-A688-4B52-9754-A4B315F3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41252-7651-4D59-BCC2-799811A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1B4D6-C180-4C8A-87AE-1FA0462D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16FB8-F11D-48FC-809F-E5E58627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3A07A-589C-4270-9FE3-E79F409D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6C3AC-ABA1-4380-8E1A-6A756E0A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6F2-8897-49BD-8B89-8EFF08EC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5FF80-5487-420C-9537-963A50A8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C69E7-65A1-490C-A8B3-41663C76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FE141-F6DF-4798-A727-0ECED9F0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1AF4D-4CA0-4A7F-B439-EF749988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64B41-6387-4793-BBCE-FC8D701B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B096F-B3AD-47FE-8330-49E37FEC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36372-1AB9-4E1A-80CF-100C55C3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5E43A-6D7F-4BC7-A711-EF837628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0CF27-BDE6-49A4-B3FD-DD4A3144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430F2-193E-42D9-842E-BDB32F8E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1B4-29F1-4C9B-BA4A-141F2A09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83CD3-DB8F-4490-8491-B64FE10F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2A4-89A0-400D-89E3-589B1C14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CA5-3461-4203-A935-180DE229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4C9-8E3A-4CA8-9448-C5370FEC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C214-5213-40C3-BD1C-A0C24C3F65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FF8A-387A-424C-99DD-D53F8775FAD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5896-8992-454E-A6A6-90098142EDB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E5E7-CC30-43C2-8033-7A8E0D19682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3E7E-394B-4A4E-8948-4D06BE2890E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242112"/>
                </a:solidFill>
                <a:latin typeface="Cambria"/>
                <a:ea typeface="Times New Roman"/>
              </a:rPr>
              <a:t>Инфективне болести у трудноћи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доц др </a:t>
            </a:r>
            <a:r>
              <a:rPr b="1" lang="sr-C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Петар Арсенијевић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Гинекологија и акушерств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новне академске студиј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487520" y="150840"/>
            <a:ext cx="6324480" cy="12463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ФАКУЛТЕТ МЕДИЦИНСКИХ НАУКА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УНИВЕРЗИТЕТА У КРАГУЈЕВЦУ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ГАК КЦ КРАГУЈЕВАЦ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30" name="Content Placeholder 3" descr="Coat_of_Arms_of_Kragujevac_University.png"/>
          <p:cNvPicPr/>
          <p:nvPr/>
        </p:nvPicPr>
        <p:blipFill>
          <a:blip r:embed="rId1"/>
          <a:stretch/>
        </p:blipFill>
        <p:spPr>
          <a:xfrm>
            <a:off x="7742160" y="622440"/>
            <a:ext cx="93204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ytomegalovirus(CMV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ијагноза се поставља на основу серологије(специфична IgM антитела,као и четрвороструки пораст IgG антител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траутерина инфекција  може да узрокује хепатоспленомегалију, ИУЗР,  микроцефалију, хидроцефалус или оштећења кранијалних нерав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ечења нема само превенциј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epatitis B virus 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НК вирус који се преноси сексуалним путем, путем крви или телесних излучевин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матра се да су око 250 милиона људи хронични носиоци инфекције (предоминантно у Африци и Азији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лод се зарази вертикалном траснмисијом, интрапартално или постпартално; вероватноћа инфекције плода код Hbs позитивне мајке је око 70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68360" y="475920"/>
            <a:ext cx="81360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случају интраутерине инфекције може доћи до спонтаног побачаја, ИУЗР,  превременог порођај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д неонатуса који су Hbs позитивни клиничка слика је блага(иктерус, увећање трансаминаз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ечење је превенција одноcно вакцинација; код Hbs позитивних мајки вакцинација плода се врши одмах након порођај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IV virus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НК ретровирус који доводи до разарања  CD4 Т лимфоцита и води ка развоју AIDS-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егистрованих заражених око 50 милиона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ероватноћа трансмисије са мајке на плод је око 50 %; постоје случајеви интраутерине инфекције само једног близанц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оже да доведе до спонтаног побачаја, превременог порођаја, ИУЗР или разних ембриопатија (микроцефалија,  краниоцефална дисморфија, хипертелоризам, деструкција тимуса, генерализована лимфаденопатиј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IV virus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ијагностикује се  доказивањем анти HIV антителима из серум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ериод инкубације од неколико недеља до годину дан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ерапија је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azidotymidin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ји је блокатор реверзне транскриптазе; охрабрујући податц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д HIV+ пацијенткиња се не препоручује инвазивна пренатална дијагностика; препоручује се вагинални порођај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Без дојења у пуерперјум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23640" y="1125360"/>
            <a:ext cx="835164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190d"/>
                </a:solidFill>
                <a:latin typeface="Cambria"/>
              </a:rPr>
              <a:t>Период органогенезе који траје од  15-59 дана, је критичан за развој плода, када већина феталних малформација и наста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190d"/>
                </a:solidFill>
                <a:latin typeface="Cambria"/>
              </a:rPr>
              <a:t>Већина инфективних болести у трудноћи, има погубан утицај како на мајку тако и на пло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190d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1b190d"/>
                </a:solidFill>
                <a:latin typeface="Cambria"/>
              </a:rPr>
              <a:t>Највећи тератогени ефекат испољавају вирусне инфекције, које се јављају код претходно неимунизованих  трудниц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ubella вирус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НК вирус, из породице Togaviridae, преноси се респираторним путе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фекција је најпогубнија на почетку трудноће; јавља се и код 15 % претходно имунизованих особ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ериод инкубације траје 10-15 дана; после тога болест почиње неспецифичним симптомима (артралгија, мијалгија, главобоља) након чега се јавља карактеристична макуло-папулозна оспа праћена локалном лимфаденопатијо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ubella вирус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колико се јави у раној трудноћи може да изазове конгенитални рубела синдром: микроцефалија, микрофталмија, енцефалитис, ментална ретардација, глувоћа, дегенеративне промене костиј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колико се јави у каснијој трудноћи, може да  изазове Адисонову болест, ИУЗР, аутизам или дијабете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оказује се IgG антителима у серуму мајке (перзистирају око месец дан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д плода ради се АЦ, КЦ; терапија не постој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SV вирус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НК вирус, из породице Herpesvirida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SV 1 вирус преноси се оралним путем; може да изазове лабијални херпес, стоматитис, ринитис, кераткоконјуктивитис, енцефалитис (ретко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олази најчешће спонтано и трајно перзистира у тригеминалним ганглионим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екурентна инфекција у трудноћи нема значаја; само у случају имунокомпромитованих особа  може имати полседицу по мајку и по пло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SV вирус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SV 2 (генитални херпес) вирус се преноси гениталним или оралним путем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Изазива генитални херпес (везикуло-папулозне промене) , у ретким случајевима менингитис или енцефалитис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Неонатални херпес се може јавити и код примарне инфекције(40%) и код поновне инфекције(10%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Инфекција HSV 2 вирусом у раној трудноћи може да доведе до спонтаног побачаја, ИУЗР, превременог порођај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Инфекција фетуса/неонатуса доводи до хидроцефалуса, кератоконјуктивитиса, менингитиса/енцефалитис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SV вирус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иајгностикује се на основу клиничке слике и серумских антитела (IgM, IgG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ерапија је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acyclovir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( инхибитор вирусне тимидин киназе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д сумње на инфекцију у раној трудноћи препоручује се амниоцентеза, кордоцентеза уз испитивање серусмких антител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д инфекције у касној трудноћи, апсолутна индикација за царски рез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Varicella zoster virus (VZV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НК вирус који се преноси капљично; после периода инкубације од 10-21 дана узрокује полиморфну оспу(везикула, пустула, круст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олази спонтано за 10-15 дана; компликације у виду пнеумоније или менингитиса су ретке, али изузетно опасн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трудноћи примарна инфекција до 20 недеље гестације узрокује конгенитални варичела синдром аномалије ЦНС-а, хориретинитис, хипоплазије екстремитета, ожиљци на кожи; после 20 недеље узрокује тежак ИУЗР, неонаталну варичелу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ytomegalovirus(CMV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НК вирус из групе Herpes virus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еома је распрострањен, сматра се да преко 60% популације је имало инфекцију CMV- ом; најчешћа интраутерина инфекција, јавља се у око 3% порођај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фекција може да буде примарна и секундарна; примарна инфекција је увек много опаснија по плод због имуног одговора мајк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фекција мајке пролази најчешће асимпотамски; може да се пренесе хематогено трансплацентарно или интрапартално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5T07:32:03Z</dcterms:created>
  <dc:creator>Petar Arsenijevic</dc:creator>
  <dc:description/>
  <dc:language>en-US</dc:language>
  <cp:lastModifiedBy>nidza</cp:lastModifiedBy>
  <dcterms:modified xsi:type="dcterms:W3CDTF">2023-02-04T16:26:55Z</dcterms:modified>
  <cp:revision>205</cp:revision>
  <dc:subject/>
  <dc:title>ФАКУЛТЕТ МЕДИЦИНСКИХ НАУКА УНИВЕРЗИТЕТ У КРАГУЈЕВЦУ</dc:title>
</cp:coreProperties>
</file>