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D7FD-7525-4B18-9263-B0CB5808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643-EBD7-404B-8503-9A262070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0E22-2EAF-4F3F-9117-D1362F23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7FF7-A94A-49A5-993E-8EDCD7BC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0E9B-564C-44A8-A533-F0113F52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DDDA-FCCE-442E-BD90-75EA4C27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5521-C3C3-444A-82E9-3673D5AE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B168-0839-4F1F-BC79-013F8924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6EFF-3736-4343-A821-FCCFEE59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F49E-6E6E-408E-B0DD-A2A7164D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A495-2DE7-4075-8E9C-7E8B7EF3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63A4-2CA7-4745-9A86-5219B5C0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4D3D-B9ED-44A6-95CA-3EA02FE3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B644-8534-4D83-9A51-FA8DB357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4174-E01C-4F6A-8824-7EE9E251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AD0D-8F09-4A51-9DFB-25A91CEA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FBA0-0F88-473A-AFFC-CD9FC996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4EF65-509C-4C48-9B88-E703E2F6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1650E-15C4-401F-81B7-44561099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BA912-A052-4750-8672-CD0DD32B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B7CC1-4406-4BEF-B670-6B55083C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4939A-3926-4DDC-9397-581AB54B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B97A-6247-4239-BADA-269A34E3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CD1A2-F1BE-43B0-A881-42F316FC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009E8-CDFE-40D9-B2A5-69396B06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33F7E-33E7-43CE-8E6D-825DF62C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3F15A-2CBA-40F7-AF93-EDD5ACA9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E57E8-DC12-49FB-8C11-D0F5460D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04CAB-84F9-48EA-9F5E-664F3E2F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BD270-9018-4A5E-98F8-85958BE8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EC5E9-4D5F-43B6-A831-565217E8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C9DAF-A6C4-451B-B874-D24A0034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C8F46-DE5A-4FC9-A7E0-FF49B007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3FC4-A492-4A1D-807B-F6CB2F09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11BE4-EB01-49FE-964A-E082E01D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A43C0-6A84-4011-ADB0-0A33F0B8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49EF4-D31C-4EB4-B8B4-9923CD8B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4EB27-CF2E-4DD0-900A-EEE89CE1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75ECD-05C3-4158-BBA2-0CE5E986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51721-63FA-43F7-BB1B-FFDCAE43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F73F2-EEC4-40C7-B803-E8987E4A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B8863-CC4E-407F-9B70-7E9896C6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B6507-54A8-470C-8A7B-283CE6FD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C2AD1-1D75-41BA-8487-A1214399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094-2240-47A6-B8FA-3EA18AAC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6B729-1212-480C-B785-1943A595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DD17F-9161-4F18-8816-791A5869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4A10E-4CB4-482B-BC6D-CF44C466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CAF79-E30B-4A35-B00D-D23223C2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21E4C-764C-4BE9-882B-97311E3E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748ED-2881-401D-B6CE-281BA9F3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82FE2-DA41-4A7F-ADB7-C7664D69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A7A9C-ECEE-4DA4-95F4-E8E07AA3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4E4ED-3234-42EB-A206-88211C1A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882CA-D014-41D9-B55B-73F703AD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8D79-4A38-4481-9701-F6B85825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78681-F27C-4F8E-860D-EC104960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E8FB-9D84-4F57-807F-40ABA428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25E-50DD-4D42-BDB1-226EE454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8017-AD0F-4292-9FF7-336F499D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2AB1-E75F-493A-8233-904A7B3C7EC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AAF8-5AC7-4DDB-ADD8-BDACA5009C0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1B1E-3198-4616-911C-0C89A79F6A9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6F35-E265-4B0E-A5C3-C29136C6491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3427-44D5-4D46-9ABD-6FFE0692D42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242112"/>
                </a:solidFill>
                <a:latin typeface="Cambria"/>
                <a:ea typeface="Times New Roman"/>
              </a:rPr>
              <a:t>Хируршка обољења у трудноћи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доц др </a:t>
            </a:r>
            <a:r>
              <a:rPr b="1" lang="sr-C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Петар Арсенијевић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Гинекологија и акушерство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Основне академске студиј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487520" y="150840"/>
            <a:ext cx="6324480" cy="12463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ФАКУЛТЕТ МЕДИЦИНСКИХ НАУКА</a:t>
            </a:r>
            <a:br>
              <a:rPr sz="2400"/>
            </a:b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УНИВЕРЗИТЕТА У КРАГУЈЕВЦУ</a:t>
            </a:r>
            <a:br>
              <a:rPr sz="2400"/>
            </a:b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ГАК КЦ КРАГУЈЕВАЦ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230" name="Content Placeholder 3" descr="Coat_of_Arms_of_Kragujevac_University.png"/>
          <p:cNvPicPr/>
          <p:nvPr/>
        </p:nvPicPr>
        <p:blipFill>
          <a:blip r:embed="rId1"/>
          <a:stretch/>
        </p:blipFill>
        <p:spPr>
          <a:xfrm>
            <a:off x="7742160" y="622440"/>
            <a:ext cx="93204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Тромбоза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Код дубоке венске тромбозе јавља се бол и оток екстремитет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Најчешће је захваћена поплитеална вен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Дијагностика: клиничка слика, Доплер, НМР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Терапија је локална уз обавезну употребу ниско молекуарног хепарин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Опасност од плућне емболије!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Content Placeholder 6" descr="Deep-Vein-ThrombosisDeep-Vein-Thrombosis.png"/>
          <p:cNvPicPr/>
          <p:nvPr/>
        </p:nvPicPr>
        <p:blipFill>
          <a:blip r:embed="rId1"/>
          <a:stretch/>
        </p:blipFill>
        <p:spPr>
          <a:xfrm>
            <a:off x="914400" y="1490760"/>
            <a:ext cx="374976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Хируршка обољења у трудноћи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Утерус крајем другог триместра трудноће излази из оквира костију и простора мале карлиц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Померају се сви органи абдоминалне дупље што може узроковати проблеме у дијагностици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Никада се не смеју искључити!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3" name="Content Placeholder 5" descr="Rast materice.png"/>
          <p:cNvPicPr/>
          <p:nvPr/>
        </p:nvPicPr>
        <p:blipFill>
          <a:blip r:embed="rId1"/>
          <a:stretch/>
        </p:blipFill>
        <p:spPr>
          <a:xfrm>
            <a:off x="914400" y="1967040"/>
            <a:ext cx="3749760" cy="35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Апендицитис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Акутно запаљење слепог црева, инциденца је 1/1000 трудноћа, што га чини најчешћим хируршким обољењем у трудноћ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линичка слика је готово идентична као и ван гравидитета; мучнина, гађење, повраћање –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hyperemesis gravidarum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Леукоцитоза у ККС-у, фебрилност (разлика ректалне и аксиларне температуре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Апендицитис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Долази до дислокације бола; болна тачка код апендицитса је померена пут навише и назад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Диференцијално дијагностички: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partus praetemporarius, pancretitis,  holecistiti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Терапија је хируршка, лапараскопски приступ је могућ у првом триместру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8" name="Content Placeholder 5" descr="Slepo crevo trudnoca.png"/>
          <p:cNvPicPr/>
          <p:nvPr/>
        </p:nvPicPr>
        <p:blipFill>
          <a:blip r:embed="rId1"/>
          <a:stretch/>
        </p:blipFill>
        <p:spPr>
          <a:xfrm>
            <a:off x="914400" y="1712880"/>
            <a:ext cx="3749760" cy="40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Хируршка обољења у трудноћи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Захваљујући расту утеруса, али и депресивном дејству прогестерона на цревну перисталтику, релативно су честа и друга хируршка обољењ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Ileus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је друго хируршко обољење по учесталости које се јавља у трудноћ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рекид у континуитету цревне пасаже настаје најчешће механички, односно услед постојања претходних прираслица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нциденца је много већа у трудноћи после претходног царског реза- често наступа после порођаја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Холециститис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астаје на пољу холестазе односно застоја у пасажи жучних путев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Етиологија је нејасна; најчешће се јавља код трудница жуте рас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 клиничкој слици доминирају наузеја, повараћање као и жута пребојеност коже са пруритусо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Дуготрајна жутица може изазвати и феталну патњу јер неконјуговани билирубин лако пролаази фетоплацентну баријер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колико се не лечи може да се компликује панкреатитисом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Кардиваскуларне болести у трудноћи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Захваљују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 чињеници да трудноћа више није стање млађих жена, као и да добар део трудноћа настаје  после вантелесне оплодње, све је већи број трудница са неком од срчаних ман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Митрална инсуфицијенција је једна од најчешћих; немогућност  затварања митралне валвуле и враћање крви у плућну циркулациј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 трудноћи се релативно добро подноси због смањења периферне резистенције (естроген, азотни оксиди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Кардиваскуларне болести у трудноћи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лична ситуација је и са митралном стенозом, инсуфицијенцијом трикуспидне валвуле, као и стенозом плућне артер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вака трудноћа је ризична; појачан надзор уз терапију и дијету без соли; препоручени вид порођаја је вагинални уз епидуралну анестезију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амо код декомпензованих срчаних мана (ЕФ&lt; 40%) постоји индикација за завршетак трудноће царским резо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Кардиваскуларне болести у трудноћи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Тромбоза је најчешћа васкуларна болест у трудноћи; раст утеруса условљава притисак на доњу шупљу вену- то резултира проширеним венама доњих екстремитет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ајчешће су захваћене  вене доњих ектремитета и то најчешће на левој нози; може бити суперфицијална и дубок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од суперфицијалне тромбозе вена јавља се црвенило и ливидност коже уз  пецкање и свраб- терапија је локална уз ношење еластичних чарап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5T07:32:03Z</dcterms:created>
  <dc:creator>Petar Arsenijevic</dc:creator>
  <dc:description/>
  <dc:language>en-US</dc:language>
  <cp:lastModifiedBy>nidza</cp:lastModifiedBy>
  <dcterms:modified xsi:type="dcterms:W3CDTF">2023-02-04T16:28:17Z</dcterms:modified>
  <cp:revision>197</cp:revision>
  <dc:subject/>
  <dc:title>ФАКУЛТЕТ МЕДИЦИНСКИХ НАУКА УНИВЕРЗИТЕТ У КРАГУЈЕВЦУ</dc:title>
</cp:coreProperties>
</file>