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7C9-1C45-467A-9971-0F1197CD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141-D906-4CB6-96AD-791877E6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E4E-372F-425C-B111-28A81E9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CF8-9565-43C6-8FEB-F5C412B1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72F8-61F7-43F1-8F89-9CCF9CEC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7D6C-924C-4E5A-ACEF-BC7E021D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A830-CCEC-4796-9BA9-07305D4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66DF-20DC-47F5-9368-C60EC7E5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A516-AD05-4E3F-8E7F-5C57F4C0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3D73-5BDA-4DAB-A29F-D3075653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A110-0110-4DE7-B3B0-126D0B3C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463-5781-43DB-8FA1-28313B62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BF17-F26A-45F4-8DCA-E6142C6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6534-2471-499A-9D93-8318AD1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EEC0-5115-49E7-B020-F80F9EC2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1E26-A7F9-4A13-AF92-FAB4DBBC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BEC7-09AA-402F-992B-6549C18D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665BF-C164-400D-9304-4CACDE93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A3D2-6A7A-40EF-9994-00EFF9BE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DDED-1C50-411F-9345-BF3A996C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E085-B155-46DC-A0A5-AF263323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D8E1-A2DA-4FE3-BF33-50CB0861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56A-E93D-4B81-85BF-F7597E14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07BD-695B-49CD-AED6-44BDBC5A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DBC6-B656-4480-B2E2-8F457CDB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584D-E07E-4EE6-8E29-556EFA5D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6E40-3D72-49D5-BB24-F73CA83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DD28-7144-4D59-89BA-0C85B8C6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8648-2398-4398-BF43-01B984CD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68C9-0789-43A3-86CC-C8703E69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EE08-6A11-4D10-BED0-2C655066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C0AA-CE12-4F71-AC8D-8FCE448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9DC88-2A30-4DAD-9589-ACFDD7E2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D88-637A-4025-B068-FB6DB429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35C1-70B7-4008-A802-B5F6C5B0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6F12F-9DC6-4C60-BE27-DF3ACCA8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3B9B-4B10-4D33-8141-AF15B6E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525E-F741-4014-8639-0F6A0DD1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7071-6D33-4923-9542-53B0B6A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C60CA-618F-4D61-B362-7362A9D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AD87-D5F9-4B1D-B48F-AA27CECB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EF7B8-069F-4A6A-AA97-FD7E7955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BC77-007A-4931-858C-6984B075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ABD51-C736-460B-A5BF-9B590904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E72-5A70-47C5-A39D-C8DD78AB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BB58-C4C8-4FD7-A4DF-D296EA41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1E8C-C873-4BC7-B5F1-8385E7C4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8A6D-044B-4FAE-89AD-CE622A4B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A611-F313-45B8-9135-39888C77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5B411-00D5-4F18-86F3-0ACE6814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531BE-86A2-49E6-82E8-F55FD3BB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741C-CE93-4BAF-BD1E-60A50DE3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53D3A-8078-4375-A57F-C295A66B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D9592-8856-4B43-A9B3-DB2F8538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CFB37-1281-429B-BE71-3DB9EAE7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B0C-1379-4999-9C28-BFD8340D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F363C-5A31-4DB6-AC7E-342C8254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8A6-7954-4AFD-AD07-5CF5127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864-5359-4C2B-9812-3224C0B9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B8D-B29F-4307-8694-D7F7F0E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EBE9-5CCA-4FC6-93F4-502007B055C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6BAD-8B39-421F-9551-A0CC396FFB6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5467-722E-49AF-B688-6F3B0F00EE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AF3E-4D64-4CDA-8629-D6A74EDF5CD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9062-1861-488F-A461-1BEB175B92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s://www.google.rs/url?sa=i&amp;rct=j&amp;q=&amp;esrc=s&amp;source=images&amp;cd=&amp;cad=rja&amp;uact=8&amp;ved=2ahUKEwiOu_bFhezaAhVC46QKHY5UDX8QjRx6BAgBEAU&amp;url=https%3A%2F%2Fradiopaedia.org%2Fcases%2Fcomplete-hydatidiform-mole&amp;psig=AOvVaw137ii1x8QHuaX2oHHAgPjj&amp;ust=1525522823445549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Гестацијске трофобластне болести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рапија моларне трудноће је вакум аспирација утерусног каву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тервенција се врши са повећаним опрезом уз обавезну ив. апликацију  синтоцино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случају перзистетног крварења интервенција се понавља 48-72 сата након прв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бавезно је праћење нивоа BHCG прво на две недеље, потом на месец дана до двоструке узастопне негативне вредно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ауза до наредне трудноће 6-12 месец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нвазивна мола (Моlla destruens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сновна карактеристика овог типа ГТБ је инвазија миометријума и околних ткива(вагина, параметријум, висцерални перитонеум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авља се у 10-15% моларних трудноћа, односно 1/15000 трудноћ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рло ретко даје метастазе које најчешће се локализују на вагини, широким везама, плућима и мозг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оже да алтерише у хорикарцн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нвазивна мола (Моlla destruens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ијагноза се поставља на основу клиничке слике, ултразвучног налаза, МР или КТ код постојања метастаз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Лечење је конзервативно применом цитостатик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etotreksat, Actinomycin D, cyclophospamid + фолна кисели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рећење вредности BHCG-a godinu dan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Content Placeholder 6" descr="Invasive.jpg"/>
          <p:cNvPicPr/>
          <p:nvPr/>
        </p:nvPicPr>
        <p:blipFill>
          <a:blip r:embed="rId1"/>
          <a:stretch/>
        </p:blipFill>
        <p:spPr>
          <a:xfrm>
            <a:off x="755640" y="2133720"/>
            <a:ext cx="37242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ориокарцином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едак облик гестацијске трофобластне неоплаз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бедљиво најчешће настаје после моларне трудноће или ектопичне трудноћ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едставља малигну алтерацију ћелија трофобласта без присуства хорионских ресица, строме и крвних судов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е је хируршко (хистеректомија); чак и код удаљених метастаза има добру прогнозу јер реагује добро на хемиотерапи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фобластни тумор плацентног лежишт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стаје услед пролиферације цитотрофобласта на лежишту постељице која инфилтрише даље у миометрију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 разлику од хориокарцинома настаје најчешће током или након нормалне трудноћ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линичка слика је оскудна јавља се болно увећање утеруса уз аменоре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арактеристика ове врсте ГТН је знатно мања синтеза HCG-a, а знатно већа HPL-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е је искључиво хируршко (хистеректомиј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62" name="Content Placeholder 3" descr="2995-0550x0475.jpg"/>
          <p:cNvPicPr/>
          <p:nvPr/>
        </p:nvPicPr>
        <p:blipFill>
          <a:blip r:embed="rId1"/>
          <a:stretch/>
        </p:blipFill>
        <p:spPr>
          <a:xfrm>
            <a:off x="2195640" y="1628640"/>
            <a:ext cx="5113080" cy="47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Гестацијске трофобластне болести (ГТБ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егенеративно пролиферативни процеси у постељици, односно делу постељице који је феталног порекл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едстављају ретку форму поремећене трудноће у Европи и Америци (1/2000 трудноћа), али врло честу код људи жуте расе (1/200 трудноћ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су резултат нумеричких хромозомских аберација  зигота, односно поремећај настаје у току самог процеса оплодње (диспермија, инактивација  мајчиног генома у зиготу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тиопатогенеза ГТБ 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основи ГТБ је појачана пролиферација/ инвазивност  цитотрофобласта у односу на остале структур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аст и разој ћелија трофобласта је контролисан од стране ендокриних, аутокриних и паракриних факто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Хормони BHCG и прогестерон имају супресивну улогу на мајчин имунски одговор и инхибирају примарни и секундарни имунски одговор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д њиховом контролом се инхибише синтеза интерлеукина и TNF који имају супресивни ефекат на инвазивност трофобласта, а стимулише синтеза интерферона и цитокина који имају супротни ефека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Гестацијске трофобластне болести (ГТБ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Основна подела ГТБ-и је на моларне (садрже хоринске ресице) и немоларне; основна клиничка подела је на неинвазивне и инвазив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Неинвазивне моларне трудноће могу да буду парцијалне или комплет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Инвазивне моларне трудноће могу да буду у облику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Инвазивне моле 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la destruen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Хориокарцино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Тумора плацентног лежиш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Епителоидног трофобластног тумо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се јавља код старијих трудница, чешће код прворотк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циденца за појаву моларних трудноћа расте после претходне моларне трудноћ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активацијом мајчиног генома у зиготу дуплира се само генетески материјал оца нормални кариотип (46XX); то је најчешћи механизам код комплетне моларне трудноће- нема феталног тки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Моле које садрже фетално ткиво су парцијалне моле и настале су  оплођењем нормалне јајне ћелије диспермијом- триплоидни број хромозома (69 XXX,XXXY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Коплетне моларне трудноће имају већи потенцијал за малигну алтерациј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Content Placeholder 5" descr="Partial mola.jpg"/>
          <p:cNvPicPr/>
          <p:nvPr/>
        </p:nvPicPr>
        <p:blipFill>
          <a:blip r:embed="rId1"/>
          <a:stretch/>
        </p:blipFill>
        <p:spPr>
          <a:xfrm>
            <a:off x="1332000" y="1773360"/>
            <a:ext cx="3051000" cy="2385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Резултат слика за complete hydatidiform mole pic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4221000"/>
            <a:ext cx="3095640" cy="22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У клиничкој слици моларне трудноће јављају с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Брзо увећање утерус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Вагинално крварењ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Мучнина, повраћањ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Лутеинске цисте јајника (због хипестимулације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IH, preeclampsi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Основни лабораторијски показатељ моларне трудноће је абнормални скок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HCG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ји може да доведе до хиперстимулације оваријума, знакова хиперемезе, па чак и хипертиреоидизма(због сличности у грађи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HCG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SH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77336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Дијагноза моларне трудноће се поставља на основу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линичке слик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Ултразвучног налаза- карактеристичан налаз је увећање материчног кавума са или без фетуса са цистично измењеном постељицом или слика ,,снежне мећаве’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Лабораторијских анализа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HCG-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вредности веће неколико пута од нормалних, користи се и за праћењ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MR, CT-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д сумње на инвазивне форме боле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иференцијално дијагностички у обзир долази: нормална трудноћа, претећи побачај, спонтани побачај, ектопична трудноћа, фетална еритробластоз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ефинитивна дијагноза се поставља само на основу хистопатолошког налаза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Content Placeholder 5" descr="Snowstorm.jpg"/>
          <p:cNvPicPr/>
          <p:nvPr/>
        </p:nvPicPr>
        <p:blipFill>
          <a:blip r:embed="rId1"/>
          <a:stretch/>
        </p:blipFill>
        <p:spPr>
          <a:xfrm>
            <a:off x="960480" y="2133720"/>
            <a:ext cx="36576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0:44Z</dcterms:modified>
  <cp:revision>218</cp:revision>
  <dc:subject/>
  <dc:title>ФАКУЛТЕТ МЕДИЦИНСКИХ НАУКА УНИВЕРЗИТЕТ У КРАГУЈЕВЦУ</dc:title>
</cp:coreProperties>
</file>