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855-E1FF-4A2E-B850-4E84144B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FE4B-1A04-4769-839E-9D2D708E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F67-5E99-48FD-9F74-FBB114C8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8A4-21AD-40EC-9ABB-2A7A5DC3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1B23-C132-4160-9242-6705018D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580C-2F08-4890-99A7-35CDD608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A9F1-2830-44CE-B0FF-B1A0C72C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4CD3-54BB-4824-8344-F5362F2E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4865-DE00-49D8-9DB2-47289D9B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92E2-0C47-4BCF-8CC9-C4889DD2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B2CF-0932-4D5C-BC65-46AB9100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1EE-CD55-4660-8F0B-00A96DA0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C5D8-746A-456C-A0F3-E04BEC38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BEA5-3A56-4738-89BD-22A4046E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07B6-30EF-4CC9-853B-8BD6D421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F3C9-D815-4D5E-866E-5E7B5F26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E231-4FD3-485C-B5F2-FA30B0C1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E33D2-9DEB-48D6-9DDC-73752752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4C948-DF0F-4C1D-A465-EFB0FCF7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C15BE-FF23-4FAE-B18B-2796B148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C4E4-D5C1-4CE4-85EF-00C22A01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BD88E-193B-40B9-BDB9-6BA10F91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05F-DE82-4BF0-8A48-07762553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2BEE6-6FD5-4E9E-95B4-527E161B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26DBA-24AB-4F6A-8D83-8C69D5BC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728D0-9992-4E7E-943A-F806C69A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BCA43-2574-46BE-836A-DB2307BD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BA79-3EA4-48A0-BC74-5DBD028E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6308D-56E2-4085-8B74-A12C1AD1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5F2D1-EBE8-4EEC-B455-B93D2AF3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0BAD9-882A-4C94-9B3E-0FA12CBA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1C616-48C0-4903-921D-9E774DB5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17AA2-E908-445A-8DDA-0795A599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78D-3BF1-4857-9435-B630CC95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805FE-9C53-4AD1-B8F2-98758187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41967-D68A-4570-8F1D-0A789AEF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F0BF2-C93D-4C97-B867-EE08F4FE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8567C-61B6-4187-8FDC-721ADE1C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F36E2-0EFC-4877-BBC7-FACB2B56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8FB2E-CF7F-4E16-BA4B-ACE2B06E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9AC12-DBDD-446D-9F9F-F7571BB0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54805-6BE2-4061-A8DD-D6FB1292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6AAAB-A35B-49D2-BBDE-B480B7DE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DC841-DEA0-45A6-91ED-CAD16B83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7511-76A4-41EC-872D-043B482A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E89DC-AAE4-4A73-A349-F236F9CB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90F94-D930-4BB5-B6A3-43D06C9A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09B77-FF97-4DA9-8A36-AF64FCAC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ABA39-7190-4B80-AEA6-B3A4FF8B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7C6D2-3C7F-49FF-90CF-0EB2E907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D47D1-7F3E-44C1-86AD-7631F2BB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F0486-26EB-4E15-9B96-17B5DF1B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6A923-ACE1-4936-BC9E-DD2FCF0A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F2B6C-3293-4FD1-B2C2-FEA4727D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EFC15-E525-4FBC-BF68-522B0CB4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C3B-DF1F-4033-9C0B-0AFAD383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53FA5-06A2-438A-B386-9D40B1F4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15F4-5814-4B6C-B9B5-8E7297DA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6CC-5B63-4278-98DA-30C5CC47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7E7-1248-4CC6-8C3B-EA8B3B09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0036-7193-4034-8958-950E66D5F65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C61F-72E2-4B58-B311-E3F8166F373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E234-DAFD-4C58-8007-81963FC70D2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8E0D-003C-49C5-ACA1-4F14AF3B4FE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0B54-FEE1-439C-BC34-9C8CE722D84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242112"/>
                </a:solidFill>
                <a:latin typeface="Cambria"/>
                <a:ea typeface="Times New Roman"/>
              </a:rPr>
              <a:t>Ванматерична трудноћа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доц др </a:t>
            </a:r>
            <a:r>
              <a:rPr b="1" lang="sr-C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Петар Арсенијевић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Гинекологија и акушерство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новне академске студиј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487520" y="150840"/>
            <a:ext cx="6324480" cy="12463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ФАКУЛТЕТ МЕДИЦИНСКИХ НАУКА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УНИВЕРЗИТЕТА У КРАГУЈЕВЦУ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ГАК КЦ КРАГУЈЕВАЦ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30" name="Content Placeholder 3" descr="Coat_of_Arms_of_Kragujevac_University.png"/>
          <p:cNvPicPr/>
          <p:nvPr/>
        </p:nvPicPr>
        <p:blipFill>
          <a:blip r:embed="rId1"/>
          <a:stretch/>
        </p:blipFill>
        <p:spPr>
          <a:xfrm>
            <a:off x="7742160" y="622440"/>
            <a:ext cx="93204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Дијагноза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50" name="Content Placeholder 4" descr="EU 3.jpg"/>
          <p:cNvPicPr/>
          <p:nvPr/>
        </p:nvPicPr>
        <p:blipFill>
          <a:blip r:embed="rId1"/>
          <a:stretch/>
        </p:blipFill>
        <p:spPr>
          <a:xfrm>
            <a:off x="539640" y="2060640"/>
            <a:ext cx="3961080" cy="3097080"/>
          </a:xfrm>
          <a:prstGeom prst="rect">
            <a:avLst/>
          </a:prstGeom>
          <a:ln w="0">
            <a:noFill/>
          </a:ln>
        </p:spPr>
      </p:pic>
      <p:pic>
        <p:nvPicPr>
          <p:cNvPr id="251" name="Content Placeholder 5" descr="EU 4.jpg"/>
          <p:cNvPicPr/>
          <p:nvPr/>
        </p:nvPicPr>
        <p:blipFill>
          <a:blip r:embed="rId2"/>
          <a:stretch/>
        </p:blipFill>
        <p:spPr>
          <a:xfrm>
            <a:off x="4968720" y="2060640"/>
            <a:ext cx="382608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Лечењ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197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Лечење ванматеричне трудноће може да буде конзервативно и оперативно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Конзервативно лечење ванматеричне трудноће може да буде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Опсервационо- ултразвучно праћење и мерење серумског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HCG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; у око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30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 % ектопичних трудноћа долази д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спонтане регресије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дикаментозно-  употребом </a:t>
            </a:r>
            <a:r>
              <a:rPr b="0" i="1" lang="sr-R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methotrexata-a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који је антагониста фолне киселине и који доводи до разарања  трофобласта. Употребљава се локално или системск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Лечењ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197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Хируршко лечење је најчешћи метод; лапароскопски приступ је метода избор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Некада је неопходан  отворени приступ; најчешће се врши једнострано одстрањивање јајовод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Компликације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Непосредне: обилно крварење, шок, ДИК, смрт(1/1000 ванматеричних трудноћа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Одложене: перитонитис, салпингитис, интестиналне опсктрукције, стерлитет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Ванматерична трудноћ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о дефиницији представља имплементацију оплођене јајне ћелије ван материчне дупље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Јавља се у око 3% свих трудноћа у САД, док је инциденца у Европи око 5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Захваљујући ултразвучном  праћењу  ране трудноће, број смртних случајева код ванматеричне трудноће се  знатно смањио, али је и даље један од водећих узрока смрти у трудноћи-15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Етиологиј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197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Физиолошки оплодња се врши у завршном делу јајовода, односно у фимбријама; одатле зигот путује до материчне дупље где се врши нидациј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Блокада у континуитету јајовода доводи до започињања трудноће ван материчне дупљ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Разлози за то су најчешће опструктивни, односно постојање прираслица у туби које су опет последица СПБ ( C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hlamidia trachomatis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)  или претходних хируршких интервенција (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salpingotomia, salpingectomia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Прираслице се могу формирати и услед конгениталних аномалија јајовода,  ендометриозе, дуготрајног коришћења ИУД-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Ванматерична трудноћ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У 95% случајева ванматерична трудноћа се формира у јајоводу(ампуларном делу), 3% је могућност да трудноћа буде оваријалн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У преостала 2% трудноћа се формира у цервиксу, перитонеуму, широким везама  или у абдомену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Content Placeholder 6" descr="EU 1.png"/>
          <p:cNvPicPr/>
          <p:nvPr/>
        </p:nvPicPr>
        <p:blipFill>
          <a:blip r:embed="rId1"/>
          <a:stretch/>
        </p:blipFill>
        <p:spPr>
          <a:xfrm>
            <a:off x="684360" y="1916280"/>
            <a:ext cx="397980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атогенез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197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После нидације зигота ван ендометријума, трофобласт продире у везивно ткиво jajовода, узрокујући крварење и формирање субсерозног хематом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Долази до прогресивног растезања јајовода које неумитно води ка руптури, након које најчешће долази до смрти ембрион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Руптура може бити интракапслуларна (абортус тубе) или екстракапсуларна; крварење и избацивање заметк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У утерусу без обзира на ектопичну локализацију трудноће долази до пролифиреције ендометријума која касније доводи до крварења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ex uter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Клиничка слик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У клиничкој слици ванматеричне трудноће карактеристичан је тријас симптома :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Бол у малој карлици &gt;95%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Аменореја – 85%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Вагинално крварење- 80%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Бол  у малој карлици почиње у виду сталног бола који настаје услед екстензије зида јајовода; услед појачане перисталтике јајовода бол прогредира у грчеве јачег интензитет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Услед руптуре тубе јавља се оштар бол услед чега жена може да изгуби свест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Накупљање крви у Дугласу узрокује притисак на ректум; накупљање крви у перитонеуму доводи до субдијафрагмалног бола који се шири у лопатицу- Лафонов знак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Клиничка слик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Изостанак менструације није сигуран знак, посебно што се код 15% пацијенткиња руптура тубе дешава пре термина наредне менструациј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Међутим, аменореју са ирегуларним крварењем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ex utero</a:t>
            </a:r>
            <a:r>
              <a:rPr b="0" i="1" lang="sr-RS" sz="2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одмах треба довести у везу са ектопичном трудноћом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Крварење је оскудно али упорно; крв је тамније боје и крварење је мање него у регуларном менструалном циклусу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Клинички симптоми ванматеричне трудноће настају најчешће  6-10 недеља након последње менструациј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Дијагноз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Дијагноза ванматеричне тудноће се поставља на основу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Анамнезе- обавезна!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Клиничке слик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Гинеколошког налаза- утерус је увећан и размекшан. Ако још нема руптуре тубе, она се може опипати; уколико је дошло до крварења у трбушну дупљу карактеристичан знак је </a:t>
            </a:r>
            <a:r>
              <a:rPr b="0" i="1" lang="sr-RS" sz="2200" spc="-1" strike="noStrike">
                <a:solidFill>
                  <a:srgbClr val="000000"/>
                </a:solidFill>
                <a:latin typeface="Cambria"/>
              </a:rPr>
              <a:t>крик Дугласа!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Лабораторијских анализа- одређивање нивоа серумског 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BHCG. 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Критична вредност која указује на ектопичну трудноћу без обзира на ултразвучни налаз је 1500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IU/ml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Ултразвука – златни стандард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Допунских метода: експлоративна киретажа, кулдоцентеза, експлоративна лапаратомија!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Дијагноза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47" name="Content Placeholder 4" descr="untitled.png"/>
          <p:cNvPicPr/>
          <p:nvPr/>
        </p:nvPicPr>
        <p:blipFill>
          <a:blip r:embed="rId1"/>
          <a:stretch/>
        </p:blipFill>
        <p:spPr>
          <a:xfrm>
            <a:off x="900000" y="2060640"/>
            <a:ext cx="3838680" cy="2808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721320" cy="279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5T07:32:03Z</dcterms:created>
  <dc:creator>Petar Arsenijevic</dc:creator>
  <dc:description/>
  <dc:language>en-US</dc:language>
  <cp:lastModifiedBy>nidza</cp:lastModifiedBy>
  <dcterms:modified xsi:type="dcterms:W3CDTF">2023-02-04T16:25:49Z</dcterms:modified>
  <cp:revision>233</cp:revision>
  <dc:subject/>
  <dc:title>ФАКУЛТЕТ МЕДИЦИНСКИХ НАУКА УНИВЕРЗИТЕТ У КРАГУЈЕВЦУ</dc:title>
</cp:coreProperties>
</file>